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AF7-1D7F-4C90-9F18-1E5E0B83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58C-A206-4F5D-8B4D-8ADA72E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733-77C0-4D77-8219-ED9C2D8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142-28D7-4756-9EED-B018A3B2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485-4B0B-46BA-8055-62513DF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6A0-31BB-4B22-98AE-92CEECC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7A5-E6E8-4A64-B37B-56150FB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C76-E484-45CE-B632-BBE4DCC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CC2-6414-4873-A3D7-498268EA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A27-A1F7-44E6-AEDE-9D01EDC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4F6-834E-4567-B169-061B3F56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58E-0C2C-43C5-8C42-3292820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653-BAB2-46AB-9025-FDC28970331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skschools.ca/~msd/2003/wittke/uranium.html" TargetMode="External"/><Relationship Id="rId2" Type="http://schemas.openxmlformats.org/officeDocument/2006/relationships/hyperlink" Target="http://www.saskschools.ca/~msd/2003/wittke/tunnels.html" TargetMode="External"/><Relationship Id="rId3" Type="http://schemas.openxmlformats.org/officeDocument/2006/relationships/hyperlink" Target="http://www.saskschools.ca/~msd/2003/wittke/fortcarlton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Province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t0.gstatic.com/images?q=tbn:ANd9GcRRt7FoyksDrTLIhGmDsiFQTsrrVbRlrQPXnIZIv9UUjkey7-pc7Q&amp;t=1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in industries in Saskatchewan are forestry and m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600360" cy="232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ages.lightstalkers.org/images/756986/potash_080907_025_large.jpg"/>
          <p:cNvPicPr/>
          <p:nvPr/>
        </p:nvPicPr>
        <p:blipFill>
          <a:blip r:embed="rId2"/>
          <a:stretch/>
        </p:blipFill>
        <p:spPr>
          <a:xfrm>
            <a:off x="4716360" y="2847960"/>
            <a:ext cx="43070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ngs that are mined include copper, nickel, lead, zinc, gold, iron, uranium and diam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oceansidenetwork.com/blog/wp-content/uploads/2010/10/gold.jpg"/>
          <p:cNvPicPr/>
          <p:nvPr/>
        </p:nvPicPr>
        <p:blipFill>
          <a:blip r:embed="rId2"/>
          <a:stretch/>
        </p:blipFill>
        <p:spPr>
          <a:xfrm>
            <a:off x="4716360" y="317196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askatchewan was first explored by Europeans in 1690 and settled in 1774; prior to that, it was populated by several indigenous tri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more settlers came to the prairies on the railway, the population grew, and Saskatchewan became a province on September 1,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rovince's name is derived from the Saskatchewan River. Earlier, the river was designated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kisiskāciwani-sīpi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"swift flowing river") in the Cree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askatchewan joined confederation on September 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fficial bird of Saskatchewan is the Sharp Tailed Gr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fficial flower of Saskatchewan is the Western Red Li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laces to see in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askschools.ca/~msd/2003/wittke/uranium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skschools.ca/~msd/2003/wittke/tunnels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askschools.ca/~msd/2003/wittke/fortcarlton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rovince of Saskatchewan has a population of 1 052 937 as of March 2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201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apital city of Saskatchewan is Regina.  There are approximately 202 256 people living in Regina as of March 2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uthern part of Saskatchewan is part of the Interior Plains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ir on the prairies is dry and the skies are usu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inter is long, windy and cold but has lots of suns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lains are made up of flat grasslands and gently rolling h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1927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area of the Interior plains is famous for                                               grain farming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 cattle ran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219640" y="453852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area is known for its production of oil and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5280" y="3673440"/>
            <a:ext cx="3719520" cy="231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8149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rest of Saskatchewan falls into the Canadian Shie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anadian Shield covers over half of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land is made of very old rock which has almost no soi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akes and forests are num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ew people live in this area because the climate is so harsh and there is little soil which makes agriculture almost im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808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2:17:55Z</dcterms:created>
  <dc:creator>Jason</dc:creator>
  <dc:description/>
  <dc:language>en-US</dc:language>
  <cp:lastModifiedBy>Jason</cp:lastModifiedBy>
  <dcterms:modified xsi:type="dcterms:W3CDTF">2011-03-22T17:00:52Z</dcterms:modified>
  <cp:revision>6</cp:revision>
  <dc:subject/>
  <dc:title>The Province of Saskatchewan</dc:title>
</cp:coreProperties>
</file>